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7457-E993-4E3F-820A-E3B934F8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693F-D56C-4CC1-97B6-0AA1ADF6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004F-346D-4216-B568-CBAC3E54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549C-EFEB-432A-9C74-CD5026EF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FA35-4ED8-4B16-8E7B-3B03583D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933C-F90D-424D-950D-23428EAE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A663-B9EA-4F3B-AED0-1AEB8B5A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DE2A-7FC7-4F09-8708-74F82EF1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0FA3-314E-42AE-953B-C3BC4A71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3FDE-50D9-4C99-A032-181ACDB1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F7BC-CC5A-4687-99FC-F3AD8BF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A66D-B75E-416F-B5F9-5555CA44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F30D-3664-4CAA-B2F7-427F7B8F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DF00-5A2D-4F6D-8ACF-3A6BAB1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1C5E-ADEB-40D6-AA6D-CA28875A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433F-D5B1-48C4-8FA6-2876069B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B2D7-0D43-42CD-92AA-98E01713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666D-422E-4D91-B6AF-26EAEDC3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75D6-BBD6-4C7D-BCAF-C6C9A9B0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E226-33CC-4345-AF28-568CD12B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36AA-714A-42F5-B026-68E37404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A7A9-4EA8-43A2-9949-2F109E35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4CE0-2501-410D-9CE2-FC4373AC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3927-313D-449D-A2D0-FE9A439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2031-FCAD-4D87-B1E3-57AB8B82CD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E10C-CCC5-44DD-A101-5276924E04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http://images.google.ro/imgres?imgurl=http://www.velpitar.ro/images/set/475_3.jpg&amp;imgrefurl=http://www.velpitar.ro/rulade-si-biscuiti/biscuiti-ambalati/&amp;usg=__sa3uOzfuBYUPKt0iGkzthCk6Uvc=&amp;h=768&amp;w=679&amp;sz=324&amp;hl=ro&amp;start=11&amp;tbnid=ZvNkoHR222GsRM:&amp;tbnh=142&amp;tbnw=126&amp;prev=/images%3Fq%3Dbiscuiti%26gbv%3D2%26hl%3Dro%26sa%3DG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velpitar.ro/images/set/475_3.jpg&amp;imgrefurl=http://www.velpitar.ro/rulade-si-biscuiti/biscuiti-ambalati/&amp;usg=__sa3uOzfuBYUPKt0iGkzthCk6Uvc=&amp;h=768&amp;w=679&amp;sz=324&amp;hl=ro&amp;start=11&amp;tbnid=ZvNkoHR222GsRM:&amp;tbnh=142&amp;tbnw=126&amp;prev=/images%3Fq%3Dbiscuiti%26gbv%3D2%26hl%3Dro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ro/imgres?imgurl=http://www.len.ro/photo/cooking/slides/biscuiti_mos_nicolae.jpg&amp;imgrefurl=http://www.len.ro/2008/12/biscuiti-de-sf-nicolae/&amp;usg=__qSXUm29YtUUtUDJjhBsMLI0ipeI=&amp;h=480&amp;w=360&amp;sz=38&amp;hl=ro&amp;start=59&amp;tbnid=G7Trw-HQWldK8M:&amp;tbnh=129&amp;tbnw=97&amp;prev=/images%3Fq%3Dbiscuiti%26start%3D40%26gbv%3D2%26ndsp%3D20%26hl%3Dro%26sa%3DN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abricarea biscuiț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948360" y="5661000"/>
            <a:ext cx="17049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Popa Corn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250920" y="115920"/>
            <a:ext cx="59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Domeniul de pregătire de bază: INDUSTRIE ALIMENTAR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Domeniul de pregătire profesională generală: INDUSTRIE ALIMENTAR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Calificarea: Brutar – patiser – preparator produse făino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odulul I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abricarea produselor făino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Clasa a XI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37396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1 Clasificarea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ortimentelor de biscuiți.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2 Prezentarea şi descrierea materiilor prime şi auxiliare necesare 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fabricării biscuiților.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3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dentificarea utilajului folosit la frământarea aluatului pentru 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 biscuiți.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Precizarea regimului tehnologic al operației de frămân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oduse făino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napolitane"/>
          <p:cNvPicPr/>
          <p:nvPr/>
        </p:nvPicPr>
        <p:blipFill>
          <a:blip r:embed="rId1"/>
          <a:stretch/>
        </p:blipFill>
        <p:spPr>
          <a:xfrm>
            <a:off x="3059280" y="2205000"/>
            <a:ext cx="2089080" cy="151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piscoturi"/>
          <p:cNvPicPr/>
          <p:nvPr/>
        </p:nvPicPr>
        <p:blipFill>
          <a:blip r:embed="rId2"/>
          <a:stretch/>
        </p:blipFill>
        <p:spPr>
          <a:xfrm>
            <a:off x="6659640" y="2924280"/>
            <a:ext cx="2117520" cy="183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napo"/>
          <p:cNvPicPr/>
          <p:nvPr/>
        </p:nvPicPr>
        <p:blipFill>
          <a:blip r:embed="rId3"/>
          <a:stretch/>
        </p:blipFill>
        <p:spPr>
          <a:xfrm>
            <a:off x="250920" y="1773360"/>
            <a:ext cx="172728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spritati"/>
          <p:cNvPicPr/>
          <p:nvPr/>
        </p:nvPicPr>
        <p:blipFill>
          <a:blip r:embed="rId4"/>
          <a:stretch/>
        </p:blipFill>
        <p:spPr>
          <a:xfrm>
            <a:off x="1908000" y="4149720"/>
            <a:ext cx="2379960" cy="181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turta dulce"/>
          <p:cNvPicPr/>
          <p:nvPr/>
        </p:nvPicPr>
        <p:blipFill>
          <a:blip r:embed="rId5"/>
          <a:stretch/>
        </p:blipFill>
        <p:spPr>
          <a:xfrm>
            <a:off x="2700360" y="765000"/>
            <a:ext cx="1339920" cy="1208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blaturi"/>
          <p:cNvPicPr/>
          <p:nvPr/>
        </p:nvPicPr>
        <p:blipFill>
          <a:blip r:embed="rId6"/>
          <a:stretch/>
        </p:blipFill>
        <p:spPr>
          <a:xfrm>
            <a:off x="5148360" y="549360"/>
            <a:ext cx="1684080" cy="151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prajituri"/>
          <p:cNvPicPr/>
          <p:nvPr/>
        </p:nvPicPr>
        <p:blipFill>
          <a:blip r:embed="rId7"/>
          <a:stretch/>
        </p:blipFill>
        <p:spPr>
          <a:xfrm>
            <a:off x="7020000" y="1268280"/>
            <a:ext cx="1728720" cy="144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475_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5300640"/>
            <a:ext cx="1908000" cy="1352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CAOF89GX"/>
          <p:cNvPicPr/>
          <p:nvPr/>
        </p:nvPicPr>
        <p:blipFill>
          <a:blip r:embed="rId10"/>
          <a:stretch/>
        </p:blipFill>
        <p:spPr>
          <a:xfrm>
            <a:off x="4932360" y="4653000"/>
            <a:ext cx="1800360" cy="127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CAKVMB6E"/>
          <p:cNvPicPr/>
          <p:nvPr/>
        </p:nvPicPr>
        <p:blipFill>
          <a:blip r:embed="rId11"/>
          <a:stretch/>
        </p:blipFill>
        <p:spPr>
          <a:xfrm>
            <a:off x="6443640" y="5300640"/>
            <a:ext cx="1782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cuiţii sunt produse făinoase dulci, cu o durată îndelungată de conservare, obţinuţi prin coacerea unui aluat afânat preparat din: făină, apă, zahăr, grăsimi, ouă, miere, glucoză, lapte, arome, afânători chimici şi biochimici şi diverse alte adaosuri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475_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86064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biscuiti_mos_nicola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4941720"/>
            <a:ext cx="1655640" cy="1440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p_dos_ripieni"/>
          <p:cNvPicPr/>
          <p:nvPr/>
        </p:nvPicPr>
        <p:blipFill>
          <a:blip r:embed="rId5"/>
          <a:stretch/>
        </p:blipFill>
        <p:spPr>
          <a:xfrm>
            <a:off x="6156360" y="549360"/>
            <a:ext cx="2303280" cy="153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205121_1234102502"/>
          <p:cNvPicPr/>
          <p:nvPr/>
        </p:nvPicPr>
        <p:blipFill>
          <a:blip r:embed="rId6"/>
          <a:stretch/>
        </p:blipFill>
        <p:spPr>
          <a:xfrm>
            <a:off x="4140360" y="4292640"/>
            <a:ext cx="165564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lasificarea sortimentelor de biscuiţ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upă compoziţia produsului şi modul de prepa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cuiţi glutenoş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cuiţi zaharoş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cuiţi crack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cuiţi umpluţ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biscuiti umpluţ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după modul de finisare pentru livr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cuiţi în vrac, livraţi în cutii mari de carton sau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m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cuiţi ambalaţi în porţii de 25 – 500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77360" y="2999880"/>
            <a:ext cx="7929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după utilitatea alimentară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cuiţi obişnuiţ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cuiţi aperitiv (au o condimentare accentuat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cuiţi desert (sunt ma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lci şi aromaţ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cuiţi diet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imes New Roman"/>
              </a:rPr>
              <a:t>Materii prime şi auxiliare folosite la fabricarea biscuiţi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tru fabricarea biscuiţilor sunt necesare o serie de materii prime şi materiale care au următoarelor funcţii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urse de substanţe nutritive (glucide, lipide, proteine, vitamine, enzime etc.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ateriile prime şi auxiliare au rolul de a imprima produsului finit o serie de caracteristici senzoriale, cum sunt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oma, culoarea, structura produsului, starea suprafeţei etc.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mbalajele au rolul de a proteja produsul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Materii prime şi auxiliare folosite : făina de grâu, grăsimi alimentare, materii zaharoase,ouă, lapte ,arome, coloranţi, afânători chimici şi biochimic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Utilaje folosite pentru frământarea aluat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scan0015"/>
          <p:cNvPicPr/>
          <p:nvPr/>
        </p:nvPicPr>
        <p:blipFill>
          <a:blip r:embed="rId1"/>
          <a:stretch/>
        </p:blipFill>
        <p:spPr>
          <a:xfrm>
            <a:off x="477720" y="2152800"/>
            <a:ext cx="4025880" cy="2904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4572000" y="2492280"/>
            <a:ext cx="42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Frământător cu braţe în formă de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ărţi compon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1-cuv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2-  fundul cuv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3-  capac rabatab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4-  braţe de frămăntare sub formă de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5-  electro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gimul tehnologic al operaţiei de frâmă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192400"/>
          <a:ext cx="8229600" cy="3537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16000"/>
                <a:gridCol w="2098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ul de alu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p de frământare (min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aluatului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◦C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iditatea aluatului ( %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at gluten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-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at  zaha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-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at afânat biochi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-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- 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5:52:04Z</dcterms:created>
  <dc:creator>x</dc:creator>
  <dc:description/>
  <dc:language>en-US</dc:language>
  <cp:lastModifiedBy>user</cp:lastModifiedBy>
  <dcterms:modified xsi:type="dcterms:W3CDTF">2018-05-28T20:06:41Z</dcterms:modified>
  <cp:revision>14</cp:revision>
  <dc:subject/>
  <dc:title>Prepararea aluatului pentru biscuiţi </dc:title>
</cp:coreProperties>
</file>