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1.jpeg" ContentType="image/jpeg"/>
  <Override PartName="/ppt/media/image9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1918-FC69-46BC-95DF-40C7FFB3CB5C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572-7B2C-45E3-82BA-9B488DAAD6C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DEC-C0DE-4734-82C2-D57139C73C8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224-7E9A-4A9C-8D6B-E99A167C2D4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B2A-AAFE-4F7A-AC40-68104AA926C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871-09EA-4ADA-927B-17AF072A16D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DAE-F91F-45CD-BB8B-05153E24DDD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B61-044C-48FF-AEF5-49698793208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0B17-658E-45E7-8107-B4BAB1C9257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F16-10DC-44C4-85FE-DB747B5FB87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7A1-0204-4B9A-8E22-B5A970F3AC9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1BC8-905F-4B98-AB7F-7138BC99584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61F-1E19-4C6E-A927-6E72EA53282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8272-6ACB-4B58-9D7E-8B58EA117A2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C57-CB04-467C-B612-D7927B12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BC1-BEBF-40CE-A28C-AC575F34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C9F-36CA-4298-9553-4D6032D4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EA6-659B-4632-9160-2A3FDAEC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7E4D-3B68-422E-94CB-F5E5FBA8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1748-845E-4224-90D0-DF88DBD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B1EBA-ADDD-48C2-A955-B82EDFA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43AE7-E41A-4641-A047-62C0508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14BD3-7967-4A13-9E86-4CC5CA8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A1A41-A621-4341-8AF4-6DFFC08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A8B47-F09A-412C-B461-64E1232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63C-A0D1-4BA7-80E9-3AC9237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2D6A2-838D-47F5-932C-AE3CAD4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AEDF-C62E-406B-8AAB-64384D8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EFA23-BA60-4270-8A9C-C4167E0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9A044-B986-4941-B21F-8D6E7D43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27DC1-FBBE-4B3F-A174-0BB29D33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EEB-17DF-4BA3-BDED-215F603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117-8DEB-4261-8FC3-ABFFA989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D31-4646-4CF2-95D9-3264E54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3C8-D631-4D29-9053-61DACA4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F71-D38E-4D67-9219-7A68D67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307-1A6F-4B08-9D60-32D8382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44A-0221-4B5C-B7DF-1313AFA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A08-7BBB-4BE9-A878-AD72B01E1455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CC7-05B6-47F6-AC89-183EE0C4A0E4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images.google.ro/imgres?imgurl=http://storage0.dms.mpinteractiv.ro/media/1/1/1686/3751720/1/branza-lapte.jpg&amp;imgrefurl=http://www.mediafax.ro/tags/lapte&amp;usg=__n8prUTCWoxBuApcB0SC1ty7dmng=&amp;h=300&amp;w=350&amp;sz=24&amp;hl=ro&amp;start=7&amp;itbs=1&amp;tbnid=4s0XjPs9IGUvGM:&amp;tbnh=103&amp;tbnw=120&amp;prev=/images%3Fq%3Dproduse%2Blactate%26hl%3Dro%26sa%3DG%26gbv%3D2%26tbs%3Disch:1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5.wmf"/><Relationship Id="rId6" Type="http://schemas.openxmlformats.org/officeDocument/2006/relationships/image" Target="../media/image20.wmf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23.jpeg"/><Relationship Id="rId11" Type="http://schemas.openxmlformats.org/officeDocument/2006/relationships/image" Target="../media/image32.jpeg"/><Relationship Id="rId12" Type="http://schemas.openxmlformats.org/officeDocument/2006/relationships/image" Target="../media/image24.jpeg"/><Relationship Id="rId13" Type="http://schemas.openxmlformats.org/officeDocument/2006/relationships/image" Target="../media/image21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age001[1]"/>
          <p:cNvPicPr/>
          <p:nvPr/>
        </p:nvPicPr>
        <p:blipFill>
          <a:blip r:embed="rId1"/>
          <a:stretch/>
        </p:blipFill>
        <p:spPr>
          <a:xfrm>
            <a:off x="1295280" y="1380960"/>
            <a:ext cx="6553440" cy="348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116000" y="620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Verdana"/>
              </a:rPr>
              <a:t>EFECTUL DIOXINEI ASUPRA  SĂNĂTĂŢ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4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Verdana"/>
              </a:rPr>
              <a:t>AUTOR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: VOINA 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COLEGIUL TEHNIC DE INDUSTRIE ALIMENTARĂ  „ TEREZIANUM” SIB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0"/>
            <a:ext cx="784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5.Sursele de dioxină din ali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Sursa majoră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de dioxine pentru organism o reprezintă alimentele consuma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a este solubilă în lipide şi se acumulează în ţesutul gras din organism. Dioxinele sunt prezente în carne, ouă şi produse lac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16000" y="234936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371680" cy="12668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3492360" y="3573360"/>
            <a:ext cx="2087640" cy="12240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Tahoma"/>
              </a:rPr>
              <a:t>Surse de dioxin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2771640" y="3428640"/>
            <a:ext cx="720720" cy="576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5364000" y="3357360"/>
            <a:ext cx="792360" cy="431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2556000" y="4508640"/>
            <a:ext cx="1079280" cy="57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5435640" y="4508640"/>
            <a:ext cx="1008000" cy="57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0" descr="branza-lap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2205000"/>
            <a:ext cx="2087640" cy="1052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ou"/>
          <p:cNvPicPr/>
          <p:nvPr/>
        </p:nvPicPr>
        <p:blipFill>
          <a:blip r:embed="rId4"/>
          <a:stretch/>
        </p:blipFill>
        <p:spPr>
          <a:xfrm>
            <a:off x="6516720" y="46530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ipfaWrq3Sces74WFM:" descr="image_125569625487474900_1"/>
          <p:cNvPicPr/>
          <p:nvPr/>
        </p:nvPicPr>
        <p:blipFill>
          <a:blip r:embed="rId5"/>
          <a:stretch/>
        </p:blipFill>
        <p:spPr>
          <a:xfrm>
            <a:off x="539640" y="4437000"/>
            <a:ext cx="1871640" cy="1184400"/>
          </a:xfrm>
          <a:prstGeom prst="rect">
            <a:avLst/>
          </a:prstGeom>
          <a:ln w="0">
            <a:noFill/>
          </a:ln>
        </p:spPr>
      </p:pic>
      <p:sp>
        <p:nvSpPr>
          <p:cNvPr id="174" name="Line 13"/>
          <p:cNvSpPr/>
          <p:nvPr/>
        </p:nvSpPr>
        <p:spPr>
          <a:xfrm>
            <a:off x="4500720" y="4797360"/>
            <a:ext cx="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ipfGuX-WeFsIr0mbM:" descr="7a3e868529ac2b6e0c476a7e63e42760_carne-pui"/>
          <p:cNvPicPr/>
          <p:nvPr/>
        </p:nvPicPr>
        <p:blipFill>
          <a:blip r:embed="rId6"/>
          <a:stretch/>
        </p:blipFill>
        <p:spPr>
          <a:xfrm>
            <a:off x="3635280" y="5516640"/>
            <a:ext cx="1800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4360" y="333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ransmiterea dioxinei la animale şi apoi în produsele aliment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63640" y="98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12880" y="895320"/>
            <a:ext cx="651492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324000" y="2924280"/>
            <a:ext cx="1944360" cy="88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Diox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627280" y="3394080"/>
            <a:ext cx="1143000" cy="269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la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4013280" y="895320"/>
            <a:ext cx="2719440" cy="5773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395280" y="1052640"/>
            <a:ext cx="1830240" cy="138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Erbici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68360" y="4292640"/>
            <a:ext cx="160020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estici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556000" y="836640"/>
            <a:ext cx="1655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Tahoma"/>
              </a:rPr>
              <a:t>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ipfFiQNP25D9g-CVM:" descr="insecticide"/>
          <p:cNvPicPr/>
          <p:nvPr/>
        </p:nvPicPr>
        <p:blipFill>
          <a:blip r:embed="rId1"/>
          <a:stretch/>
        </p:blipFill>
        <p:spPr>
          <a:xfrm>
            <a:off x="900000" y="1700280"/>
            <a:ext cx="885960" cy="4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PesticideGear-PesticidePics-A_ML0002"/>
          <p:cNvPicPr/>
          <p:nvPr/>
        </p:nvPicPr>
        <p:blipFill>
          <a:blip r:embed="rId2"/>
          <a:stretch/>
        </p:blipFill>
        <p:spPr>
          <a:xfrm>
            <a:off x="611280" y="5013360"/>
            <a:ext cx="1276200" cy="847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3IJF4CA83N9OHCACUFUW4CACROIG1CAIW1B4KCAIZTTQXCA0ANPPWCAUNU8DRCANW4FQ1CAUE9OIFCABEJGK6CA6T0P7DCAU40R43CABFV8MHCA2W0R3HCA0JANYJCA6DP2TVCAV7ITEOCA4YPI3UCARJJ45U"/>
          <p:cNvPicPr/>
          <p:nvPr/>
        </p:nvPicPr>
        <p:blipFill>
          <a:blip r:embed="rId3"/>
          <a:stretch/>
        </p:blipFill>
        <p:spPr>
          <a:xfrm>
            <a:off x="2771640" y="414972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188" name="ipfweIzeznCD2XFPM:" descr="fan"/>
          <p:cNvPicPr/>
          <p:nvPr/>
        </p:nvPicPr>
        <p:blipFill>
          <a:blip r:embed="rId4"/>
          <a:stretch/>
        </p:blipFill>
        <p:spPr>
          <a:xfrm>
            <a:off x="2771640" y="472428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/>
          <p:cNvPicPr/>
          <p:nvPr/>
        </p:nvPicPr>
        <p:blipFill>
          <a:blip r:embed="rId6"/>
          <a:stretch/>
        </p:blipFill>
        <p:spPr>
          <a:xfrm>
            <a:off x="4648320" y="1341360"/>
            <a:ext cx="1439640" cy="1554120"/>
          </a:xfrm>
          <a:prstGeom prst="rect">
            <a:avLst/>
          </a:prstGeom>
          <a:ln w="0">
            <a:noFill/>
          </a:ln>
        </p:spPr>
      </p:pic>
      <p:pic>
        <p:nvPicPr>
          <p:cNvPr id="191" name="ipfijdJjyO3QsajyM:" descr="gainiderasa"/>
          <p:cNvPicPr/>
          <p:nvPr/>
        </p:nvPicPr>
        <p:blipFill>
          <a:blip r:embed="rId7"/>
          <a:stretch/>
        </p:blipFill>
        <p:spPr>
          <a:xfrm>
            <a:off x="4284720" y="2852640"/>
            <a:ext cx="2158920" cy="109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49c3eaa13afcc"/>
          <p:cNvPicPr/>
          <p:nvPr/>
        </p:nvPicPr>
        <p:blipFill>
          <a:blip r:embed="rId8"/>
          <a:stretch/>
        </p:blipFill>
        <p:spPr>
          <a:xfrm>
            <a:off x="4284720" y="3933720"/>
            <a:ext cx="2158920" cy="1077840"/>
          </a:xfrm>
          <a:prstGeom prst="rect">
            <a:avLst/>
          </a:prstGeom>
          <a:ln w="0">
            <a:noFill/>
          </a:ln>
        </p:spPr>
      </p:pic>
      <p:pic>
        <p:nvPicPr>
          <p:cNvPr id="193" name="ipfuQe75JfULVe5YM:" descr="vaca1"/>
          <p:cNvPicPr/>
          <p:nvPr/>
        </p:nvPicPr>
        <p:blipFill>
          <a:blip r:embed="rId9"/>
          <a:stretch/>
        </p:blipFill>
        <p:spPr>
          <a:xfrm>
            <a:off x="4788000" y="501336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94" name="Line 20"/>
          <p:cNvSpPr/>
          <p:nvPr/>
        </p:nvSpPr>
        <p:spPr>
          <a:xfrm flipV="1">
            <a:off x="1258920" y="3789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1258920" y="24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1979640" y="2420640"/>
            <a:ext cx="647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3635280" y="2708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25"/>
          <p:cNvSpPr/>
          <p:nvPr/>
        </p:nvSpPr>
        <p:spPr>
          <a:xfrm flipV="1">
            <a:off x="3635280" y="3500280"/>
            <a:ext cx="36036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6372360" y="1773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6372360" y="5805360"/>
            <a:ext cx="72072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6681960" y="32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7093080" y="836640"/>
            <a:ext cx="20509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Carne şi preparat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din car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ipfaWrq3Sces74WFM:" descr="image_125569625487474900_1"/>
          <p:cNvPicPr/>
          <p:nvPr/>
        </p:nvPicPr>
        <p:blipFill>
          <a:blip r:embed="rId10"/>
          <a:stretch/>
        </p:blipFill>
        <p:spPr>
          <a:xfrm>
            <a:off x="7093080" y="836640"/>
            <a:ext cx="2050920" cy="752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1"/>
          <p:cNvSpPr/>
          <p:nvPr/>
        </p:nvSpPr>
        <p:spPr>
          <a:xfrm>
            <a:off x="7093080" y="2565360"/>
            <a:ext cx="20509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Ouă şi carne de pasă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2" descr="organic-eggs"/>
          <p:cNvPicPr/>
          <p:nvPr/>
        </p:nvPicPr>
        <p:blipFill>
          <a:blip r:embed="rId11"/>
          <a:stretch/>
        </p:blipFill>
        <p:spPr>
          <a:xfrm>
            <a:off x="7093080" y="2565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207" name="ipfGuX-WeFsIr0mbM:" descr="7a3e868529ac2b6e0c476a7e63e42760_carne-pui"/>
          <p:cNvPicPr/>
          <p:nvPr/>
        </p:nvPicPr>
        <p:blipFill>
          <a:blip r:embed="rId12"/>
          <a:stretch/>
        </p:blipFill>
        <p:spPr>
          <a:xfrm>
            <a:off x="8101080" y="2565360"/>
            <a:ext cx="1042920" cy="792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4"/>
          <p:cNvSpPr/>
          <p:nvPr/>
        </p:nvSpPr>
        <p:spPr>
          <a:xfrm>
            <a:off x="7093080" y="4149720"/>
            <a:ext cx="20509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Lapte şi preparat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din lap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ipf4s0XjPs9IGUvGM:" descr="branza-lapte"/>
          <p:cNvPicPr/>
          <p:nvPr/>
        </p:nvPicPr>
        <p:blipFill>
          <a:blip r:embed="rId13"/>
          <a:stretch/>
        </p:blipFill>
        <p:spPr>
          <a:xfrm>
            <a:off x="7093080" y="4149720"/>
            <a:ext cx="2050920" cy="619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6"/>
          <p:cNvSpPr/>
          <p:nvPr/>
        </p:nvSpPr>
        <p:spPr>
          <a:xfrm>
            <a:off x="7164360" y="5661000"/>
            <a:ext cx="197964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Peşte şi preparate d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peş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37" descr="peste"/>
          <p:cNvPicPr/>
          <p:nvPr/>
        </p:nvPicPr>
        <p:blipFill>
          <a:blip r:embed="rId14"/>
          <a:stretch/>
        </p:blipFill>
        <p:spPr>
          <a:xfrm>
            <a:off x="7164360" y="5589720"/>
            <a:ext cx="1979640" cy="863640"/>
          </a:xfrm>
          <a:prstGeom prst="rect">
            <a:avLst/>
          </a:prstGeom>
          <a:ln w="0">
            <a:noFill/>
          </a:ln>
        </p:spPr>
      </p:pic>
      <p:sp>
        <p:nvSpPr>
          <p:cNvPr id="212" name="Line 38"/>
          <p:cNvSpPr/>
          <p:nvPr/>
        </p:nvSpPr>
        <p:spPr>
          <a:xfrm>
            <a:off x="6659640" y="472428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611280" y="4581360"/>
            <a:ext cx="784836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99ff"/>
                </a:solidFill>
                <a:latin typeface="Verdana"/>
              </a:rPr>
              <a:t>                  </a:t>
            </a:r>
            <a:r>
              <a:rPr b="1" lang="ro-RO" sz="2000" spc="-1" strike="noStrike">
                <a:solidFill>
                  <a:srgbClr val="6699ff"/>
                </a:solidFill>
                <a:latin typeface="Verdana"/>
              </a:rPr>
              <a:t>Concentraţiile dioxinei în alim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	</a:t>
            </a: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Analiza dioxinelor se realizează cu ajutorul spectofotometrelor de mas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de înaltă rezoluţie, care sunt aparate de o sensibilitate foarte mare şi detecteaz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cantităţi extrem de mici existente în alime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8" descr="dioxină 1"/>
          <p:cNvPicPr/>
          <p:nvPr/>
        </p:nvPicPr>
        <p:blipFill>
          <a:blip r:embed="rId1"/>
          <a:stretch/>
        </p:blipFill>
        <p:spPr>
          <a:xfrm>
            <a:off x="0" y="0"/>
            <a:ext cx="9144000" cy="481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1476360" y="2997360"/>
            <a:ext cx="1150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e conside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intoxic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a la om apar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peste 95% din cazuri pe cale alimenta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prin consumul de carne dar mai ales de grasime animal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dar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ou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lapte sau alte alimente uzu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-a constatat o rel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direct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tre cantitatea de dioxi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n organismul oamenilor dintr-o comunitate,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nivelul de contaminare al alimentelor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mediulu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are t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sc. 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e conside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oxina se g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e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oncent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ile cele mai mar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arnea de vit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apoi lapte, carnea de pui, porc, pe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e, ou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ap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sol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ea mai mi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oncent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a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La persoanele vegetariene, co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nutul de dioxi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n corp este mult mai mic de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 la restul popul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i. In afa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e alimente, contaminarea uma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se poate face prin a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sol, inhalare de praf contaminat, fumul d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gare, sau chiar absorb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prin piele, iar la sugar prin intermediul laptelui de mam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ioxin[ 2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256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5724360" y="549360"/>
            <a:ext cx="266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Intoxicatia cronica, obisnuita, poate avea efecte mult mai numeroase, desi mai putin evidente, cele mai frecvente sisteme afectate fiind cel endocrin si cel reproductiv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19480"/>
                <a:gridCol w="68245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ie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Hiperpigmentare, cloracnee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istem gastrointestin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ureri abdominale, greaţă, vărsături, scădere în greutate, modificarea testelor hepatice, afectarea splinei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etabol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reşterea concentraţiei lipidelor sanguine, ateroscleroză</a:t>
                      </a:r>
                      <a:r>
                        <a:rPr b="0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ndocr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abet zaharat tip II, hipotiroidie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rvoa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Furnicături la nivelul membre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munolog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căderea imunităţii cu creşterea riscului de infecţi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produce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căderea fertilităţii, avorturi spontane, atrofia testiculelor, hipospermi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pi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Întârziere în creştere, dificultăţi la învăţătură, probleme de adaptare, dezvoltare deficitară a dinţi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ratoge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ferite malformaţii ale nou-născuţi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cinoge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ferite tipuri de cancere – sân, uter, testicul, prostată, pie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Gener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Atrofierea muschilor, oboseala cronic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39640" y="549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7.CONCLUZII ŞI RECOMANDĂ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Pentru a evita consecinţele dioxinei asupra sănătăţii este recomandabil să consumăm lapte şi brânzeturi degresate, carne şi alte produse provenind din surse sigur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Fructele şi legumele trebuie spălate cu grijă pentru a îndepărta pesticidele cu care au fost stropi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Este recomandat să consumăm alimente organice, vegetale cultivate fără a folosi pestecide, erbicide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68360" y="549360"/>
            <a:ext cx="835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Arial"/>
              </a:rPr>
              <a:t>1.DIOXINE. DEFINIŢ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Dioxina este de fapt o familie de compone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 chimici,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 acest moment exist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d peste 400 de tipuri de 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. Dintre acestea, 30 sunt considerate ca av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d o toxicitate semnificativ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Dintre toate substa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ele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globate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 denumirea de “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”, 2,3,7,8-tetrachloro-dibenzo-para-dioxina (TCDD) este considerat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cea mai toxic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 general, atunci c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d se vorbe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te de “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”, se face referire la TCD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Dioxinele  pot avea diferite  efecte dăunătoare sănătăţii  în funcţie de numărul şi poziţia  atomilor de clor. 2,3,7,8-TCD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258920" y="2997360"/>
            <a:ext cx="66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image001[1]"/>
          <p:cNvPicPr/>
          <p:nvPr/>
        </p:nvPicPr>
        <p:blipFill>
          <a:blip r:embed="rId1"/>
          <a:stretch/>
        </p:blipFill>
        <p:spPr>
          <a:xfrm>
            <a:off x="1258920" y="3500280"/>
            <a:ext cx="6553080" cy="252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Alte dioxine nu prezintă acest tip de toxicita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64072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Verdana"/>
              </a:rPr>
              <a:t>2. CLASIFI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sunt împărţite  în opt grupe de produse chimice, în funcţie de numărul de  atomi de clo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un atom de clor este numit mono-cloro dioxină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doi atomi de clor se numesc dicloro dioxina (D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de trei atomi de clor se numeste tri-cloro dioxina (Tr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de patru atomi de clor numesc  tetra-cloro  dioxina ( TCDD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cinci atomi de clor penta-cloro dioxina (Pe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 cu şase atomi  hexa-cloro  dioxina (Hx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şapte atomi  hepta-cloro  dioxina (Hp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 octa-cloro dioxina OCD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539640" y="26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3. TOXICI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şi furanii sunt cele mai toxice substanţe chimice cunoscute, toxicitatea lor este considerată a doua după cea a deşeurilor radioactive. Un raport făcut public în 1994, realizat de Agenţia de Protecţie a Mediului a Statelor Unite descrie dioxina ca fiind o ameninţare serioasă pentru sănăt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23716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Sursele  de poluare cu dioxină sun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incineratoarele de  diverse tipu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fabricile de producere a hârtiei prin procesul de albire al hârtie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fabricile producătoare de PVC şi pestic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procesele de  ardere a materialelor plastice de către populaţ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Raportul din 1994 confirmă faptul că dioxina reprezintă un 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factor cauzator de cancer.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1997, o agenţie a Organizaţiei Mondiale a Sănătăţii a anunţat faptul că dioxinele şi furanii sunt considerate cancerigene de clasa I, iar un studiu din 2002 arată faptul că dioxinele sunt direct legate de creşterea incidenţei cancerului la sâ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afară de cancer, expunerea la dioxine poate determina 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probleme grave ale sistemului de reproducere şi deficienţe în dezvoltarea fătulu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6"/>
          <p:cNvSpPr/>
          <p:nvPr/>
        </p:nvSpPr>
        <p:spPr>
          <a:xfrm>
            <a:off x="720720" y="2408400"/>
            <a:ext cx="681372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3375000" y="2816280"/>
            <a:ext cx="22860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Diox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796000" y="189000"/>
            <a:ext cx="29732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Fabricarea de pesticide şi erbici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042920" y="260280"/>
            <a:ext cx="22179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rderea deşeuri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municip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32200" y="189000"/>
            <a:ext cx="18194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Evacuarea gazelor de la autovehicu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68360" y="2205000"/>
            <a:ext cx="2678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ncineratoar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332000" y="3933720"/>
            <a:ext cx="2816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entrale electr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4562640" y="4067280"/>
            <a:ext cx="32493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rocese de combusti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889600" y="2352600"/>
            <a:ext cx="26431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Utilizarea clorului în procese de înălbi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4518000" y="2359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3146040" y="3273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4"/>
          <p:cNvSpPr/>
          <p:nvPr/>
        </p:nvSpPr>
        <p:spPr>
          <a:xfrm flipH="1" flipV="1">
            <a:off x="3260520" y="2244240"/>
            <a:ext cx="571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 flipV="1">
            <a:off x="5432400" y="2244240"/>
            <a:ext cx="343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5661000" y="3273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4174920" y="3616200"/>
            <a:ext cx="228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4746600" y="361620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ipf20PhLcuhx_U3OM:" descr="news-20091203-05241710-1525055060"/>
          <p:cNvPicPr/>
          <p:nvPr/>
        </p:nvPicPr>
        <p:blipFill>
          <a:blip r:embed="rId1"/>
          <a:stretch/>
        </p:blipFill>
        <p:spPr>
          <a:xfrm>
            <a:off x="826920" y="1052640"/>
            <a:ext cx="230508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KZ89UCAFBWS8UCATSHBTZCAS81XEICAG7UE58CA9728A3CABK7HISCAV2YFHOCABCOMM6CAXK5OTKCA70XG7KCACCAK16CATBGSEPCAAJVZ5HCAC54AR9CADNQZ13CAUJPEOICAVU0WJ5CAL1E0TPCAMI3O13"/>
          <p:cNvPicPr/>
          <p:nvPr/>
        </p:nvPicPr>
        <p:blipFill>
          <a:blip r:embed="rId2"/>
          <a:stretch/>
        </p:blipFill>
        <p:spPr>
          <a:xfrm>
            <a:off x="3635280" y="1197000"/>
            <a:ext cx="201636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ipf48ROvICYYilOyM:" descr="pesticide_use"/>
          <p:cNvPicPr/>
          <p:nvPr/>
        </p:nvPicPr>
        <p:blipFill>
          <a:blip r:embed="rId3"/>
          <a:stretch/>
        </p:blipFill>
        <p:spPr>
          <a:xfrm>
            <a:off x="5867280" y="981000"/>
            <a:ext cx="280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1" name="ipfqZJczczTzob2CM:" descr="reciclarea_hartiei"/>
          <p:cNvPicPr/>
          <p:nvPr/>
        </p:nvPicPr>
        <p:blipFill>
          <a:blip r:embed="rId4"/>
          <a:stretch/>
        </p:blipFill>
        <p:spPr>
          <a:xfrm>
            <a:off x="6156360" y="2997360"/>
            <a:ext cx="2303280" cy="1079280"/>
          </a:xfrm>
          <a:prstGeom prst="rect">
            <a:avLst/>
          </a:prstGeom>
          <a:ln w="0">
            <a:noFill/>
          </a:ln>
        </p:spPr>
      </p:pic>
      <p:pic>
        <p:nvPicPr>
          <p:cNvPr id="122" name="ipf8vgz5KOTbFUP2M:" descr="200px-Et_baal"/>
          <p:cNvPicPr/>
          <p:nvPr/>
        </p:nvPicPr>
        <p:blipFill>
          <a:blip r:embed="rId5"/>
          <a:stretch/>
        </p:blipFill>
        <p:spPr>
          <a:xfrm>
            <a:off x="4788000" y="436572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8" descr="centrala electrica"/>
          <p:cNvPicPr/>
          <p:nvPr/>
        </p:nvPicPr>
        <p:blipFill>
          <a:blip r:embed="rId6"/>
          <a:stretch/>
        </p:blipFill>
        <p:spPr>
          <a:xfrm>
            <a:off x="1692360" y="436572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ipfEo2HDM4vgjrYlM:" descr="a20975e09e0056d5c617d60fd9f322a3"/>
          <p:cNvPicPr/>
          <p:nvPr/>
        </p:nvPicPr>
        <p:blipFill>
          <a:blip r:embed="rId7"/>
          <a:stretch/>
        </p:blipFill>
        <p:spPr>
          <a:xfrm>
            <a:off x="539640" y="2781360"/>
            <a:ext cx="20163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0920" y="234936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4. DIOXINA ŞI MEDIUL ÎNCONJURĂ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aer şi apă, o parte din  dioxină  poate fi găsită  sub formă  de vapori sau dizolvată , în funcţie de numărul de particule , temperatură, şi  alţi  factori de mediu., 2,3,7,8-TCDD este inodoră, iar  mirosurile  de la alte  dioxine nu sunt cunoscu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7280" y="3213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FGACZCAMY0Q3FCAG0FRBSCAEPJT0ICAKROLX0CAT75W4HCAIA9JKECA5CQBUQCA0FKE5KCAC4PSETCAWLSB86CAOVAKOOCATFZP0KCA9N1OUZCA2GZPO6CAMF10Z8CAKAGUZICAWLSQ2SCA1VE5HXCAM91SX1"/>
          <p:cNvPicPr/>
          <p:nvPr/>
        </p:nvPicPr>
        <p:blipFill>
          <a:blip r:embed="rId1"/>
          <a:stretch/>
        </p:blipFill>
        <p:spPr>
          <a:xfrm>
            <a:off x="250920" y="4365720"/>
            <a:ext cx="33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10076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9162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 au fost descoperite în fumul de ţigară, precum şi la sistemele de evacuare de la maşinile care rulează pe benzină cu,sau fără plumb şi motor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187280" y="357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Z89UCAFBWS8UCATSHBTZCAS81XEICAG7UE58CA9728A3CABK7HISCAV2YFHOCABCOMM6CAXK5OTKCA70XG7KCACCAK16CATBGSEPCAAJVZ5HCAC54AR9CADNQZ13CAUJPEOICAVU0WJ5CAL1E0TPCAMI3O13"/>
          <p:cNvPicPr/>
          <p:nvPr/>
        </p:nvPicPr>
        <p:blipFill>
          <a:blip r:embed="rId1"/>
          <a:stretch/>
        </p:blipFill>
        <p:spPr>
          <a:xfrm>
            <a:off x="324000" y="0"/>
            <a:ext cx="3311280" cy="22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UBY6CA5ZV3ENCA3CFUNECA7M3Q2OCAPRAR51CAPHZULJCAQTWUOBCAQFZGSGCAZ1HLEUCAEG5PDLCAG260OXCAQPKQ3SCA1KOXLDCAV2KGY3CA0I5DUXCASYDHN2CAV058VQCAKPY1PUCAGM985GCA8TDJXS"/>
          <p:cNvPicPr/>
          <p:nvPr/>
        </p:nvPicPr>
        <p:blipFill>
          <a:blip r:embed="rId2"/>
          <a:stretch/>
        </p:blipFill>
        <p:spPr>
          <a:xfrm>
            <a:off x="3059280" y="3429000"/>
            <a:ext cx="3457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3173400" cy="199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103640" cy="1944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11280" y="9079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 apar  ca substanţe chimice la fabricarea unor compuşi cloruraţi cum ar fi pesticidele şi  erbicidele, care apoi ajung în mediul exteri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11280" y="530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epozitarea si utilizarea  improprie  a pesticidelor  şi a deşeurilor generate în timpul procesului de producţie poate duce la  contaminarea  solului şi a apei cu dioxin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1042920" y="404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ffcc00"/>
                </a:solidFill>
                <a:uFillTx/>
                <a:latin typeface="Verdana"/>
              </a:rPr>
              <a:t>Circuitul dioxin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00000" y="292428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971640" y="1341360"/>
            <a:ext cx="70912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1116000" y="2924280"/>
            <a:ext cx="20080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ox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84360" y="1341360"/>
            <a:ext cx="2428560" cy="133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2754360" y="3347640"/>
            <a:ext cx="115416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3914640" y="2852640"/>
            <a:ext cx="152100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P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 flipH="1" flipV="1">
            <a:off x="2889000" y="2410920"/>
            <a:ext cx="12049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718160" y="1197000"/>
            <a:ext cx="27334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articule mici din sol, organ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5940360" y="2349360"/>
            <a:ext cx="2735280" cy="112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Plante şi animale microscop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6156360" y="3789360"/>
            <a:ext cx="227484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lante şi animale mai ma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4859280" y="5157720"/>
            <a:ext cx="33447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LANŢUL ALIMENT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23"/>
          <p:cNvSpPr/>
          <p:nvPr/>
        </p:nvSpPr>
        <p:spPr>
          <a:xfrm>
            <a:off x="755640" y="4017960"/>
            <a:ext cx="2089080" cy="149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2844720" y="3615840"/>
            <a:ext cx="1069920" cy="66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H="1">
            <a:off x="2711520" y="3616200"/>
            <a:ext cx="1069920" cy="66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7"/>
          <p:cNvSpPr/>
          <p:nvPr/>
        </p:nvSpPr>
        <p:spPr>
          <a:xfrm>
            <a:off x="2838600" y="2584440"/>
            <a:ext cx="10713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pfyQtuU7Ki9zfjzM:" descr="apa"/>
          <p:cNvPicPr/>
          <p:nvPr/>
        </p:nvPicPr>
        <p:blipFill>
          <a:blip r:embed="rId1"/>
          <a:stretch/>
        </p:blipFill>
        <p:spPr>
          <a:xfrm>
            <a:off x="4211640" y="3500280"/>
            <a:ext cx="936720" cy="754200"/>
          </a:xfrm>
          <a:prstGeom prst="rect">
            <a:avLst/>
          </a:prstGeom>
          <a:ln w="0">
            <a:noFill/>
          </a:ln>
        </p:spPr>
      </p:pic>
      <p:sp>
        <p:nvSpPr>
          <p:cNvPr id="155" name="Line 30"/>
          <p:cNvSpPr/>
          <p:nvPr/>
        </p:nvSpPr>
        <p:spPr>
          <a:xfrm flipV="1">
            <a:off x="1916280" y="2636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90800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2" descr="nori1"/>
          <p:cNvPicPr/>
          <p:nvPr/>
        </p:nvPicPr>
        <p:blipFill>
          <a:blip r:embed="rId2"/>
          <a:stretch/>
        </p:blipFill>
        <p:spPr>
          <a:xfrm>
            <a:off x="1116000" y="1844640"/>
            <a:ext cx="1511280" cy="65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sol_marte_21"/>
          <p:cNvPicPr/>
          <p:nvPr/>
        </p:nvPicPr>
        <p:blipFill>
          <a:blip r:embed="rId3"/>
          <a:stretch/>
        </p:blipFill>
        <p:spPr>
          <a:xfrm>
            <a:off x="1116000" y="4581360"/>
            <a:ext cx="1228680" cy="667080"/>
          </a:xfrm>
          <a:prstGeom prst="rect">
            <a:avLst/>
          </a:prstGeom>
          <a:ln w="0">
            <a:noFill/>
          </a:ln>
        </p:spPr>
      </p:pic>
      <p:sp>
        <p:nvSpPr>
          <p:cNvPr id="159" name="Line 34"/>
          <p:cNvSpPr/>
          <p:nvPr/>
        </p:nvSpPr>
        <p:spPr>
          <a:xfrm flipV="1">
            <a:off x="4643280" y="2204640"/>
            <a:ext cx="433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5292720" y="2997000"/>
            <a:ext cx="64764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40"/>
          <p:cNvSpPr/>
          <p:nvPr/>
        </p:nvSpPr>
        <p:spPr>
          <a:xfrm>
            <a:off x="7308720" y="3500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41"/>
          <p:cNvSpPr/>
          <p:nvPr/>
        </p:nvSpPr>
        <p:spPr>
          <a:xfrm>
            <a:off x="7308720" y="47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1:27:59Z</dcterms:created>
  <dc:creator>User</dc:creator>
  <dc:description/>
  <dc:language>en-US</dc:language>
  <cp:lastModifiedBy>Dana Dimoiu</cp:lastModifiedBy>
  <dcterms:modified xsi:type="dcterms:W3CDTF">2018-05-28T06:55:39Z</dcterms:modified>
  <cp:revision>10</cp:revision>
  <dc:subject/>
  <dc:title>Slide 1</dc:title>
</cp:coreProperties>
</file>